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255A-3932-45B8-B6DF-4EBE42693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5E83-C574-43A0-AD57-902DC3F44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E2A5-AA9E-4CD6-A5B6-43BA5C6EF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D9EF-3FD2-440A-AFA7-11C20E812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BCBA-D3DA-4D7F-82D7-B1DA5F071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0779-648B-4325-8C09-9F6B4ECBD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6248-2B56-475F-9A30-7D216E9D5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1E9B-2115-484E-ADC1-16C204001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63D4-FF1C-4B7F-ABB4-0B6E0AEAC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0323-ED3B-425D-A256-160DD35A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2F5A-7175-43F0-9329-CA471708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11FE-3FC6-4B32-860D-4D9A2969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83DF4-D14C-4AB3-A8C4-91BEA4FC4E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フロー制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1480" y="1341360"/>
            <a:ext cx="122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使用中およびログ採取時は、バッファへ格納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フルになると、最古のデータから上書き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で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の中身を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すべて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クロ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）へ送信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データをすべてリングバッファとして保存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661000"/>
            <a:ext cx="3744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コマンド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ync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、同期されるのは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マクロ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信間の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から大量にパケットが送られてき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きは、データの取りこぼしが発生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1T13:09:57Z</dcterms:modified>
  <cp:revision>157</cp:revision>
  <dc:subject/>
  <dc:title>DDEのしくみ</dc:title>
</cp:coreProperties>
</file>