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4C0AB-5061-4934-9B3B-55A639483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462E4-A40A-4E28-AA78-2211AF287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C87EC-54F3-4CCC-8BA9-5B5150329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97E68-053C-4579-A291-7F5EA7B0B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9FD25-F5CD-42D0-B49D-BB5F2556E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CBBF3-325B-4442-A250-B7213EC73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71CDC-CB8F-4573-A43E-D61F033D5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E00C2-A22D-4C18-A0B3-73E63EC85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1AC17-CC4A-4D6F-B16C-CC83A6938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81D6A-E2F4-48CC-B693-11B8A720B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4F1F6-6E93-4887-9236-6337AEE6B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9FBF6-B55D-4004-8CD6-24EDB3C16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游ゴシック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A5624-C093-42E0-BA01-8CBB6C89C34E}" type="slidenum"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游ゴシック Light"/>
              </a:rPr>
              <a:t>test</a:t>
            </a:r>
            <a:endParaRPr b="0" lang="en-US" sz="60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游ゴシック"/>
              </a:rPr>
              <a:t>Test test</a:t>
            </a:r>
            <a:endParaRPr b="0" lang="en-US" sz="24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24T11:10:28Z</dcterms:created>
  <dc:creator/>
  <dc:description/>
  <dc:language>en-US</dc:language>
  <cp:lastModifiedBy/>
  <dcterms:modified xsi:type="dcterms:W3CDTF">2021-10-24T11:10:41Z</dcterms:modified>
  <cp:revision>1</cp:revision>
  <dc:subject/>
  <dc:title/>
</cp:coreProperties>
</file>