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A8D30-E6A6-4207-988E-14556E7BD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769BD-F20F-4A98-BC92-24FC19BCB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FAD89-F32D-4D09-87F2-65F719090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B8B5C-A878-4CD0-8055-4674335E9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1AA64-5D86-4515-9795-53D483B5B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73A45-D5BC-4325-A797-DE0ECADD0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85DA2-9BB4-4B48-A0EA-219AF87DE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1DF00-CF37-471B-B8E8-CC5CB2B32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B47CD-96B4-4B67-8D23-2E7129921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D4664-028F-4345-A089-65E774A09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F6CFE-B7C9-48F1-87FD-E1FEC2362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D4CB2-92BA-4239-B362-FDF1A2EE2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游ゴシック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29EA7-A02A-40CE-92EF-1C3EFE80CE45}" type="slidenum"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游ゴシック Light"/>
              </a:rPr>
              <a:t>test</a:t>
            </a:r>
            <a:endParaRPr b="0" lang="en-US" sz="60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游ゴシック"/>
              </a:rPr>
              <a:t>Test test</a:t>
            </a:r>
            <a:endParaRPr b="0" lang="en-US" sz="24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24T11:10:28Z</dcterms:created>
  <dc:creator/>
  <dc:description/>
  <dc:language>en-US</dc:language>
  <cp:lastModifiedBy/>
  <dcterms:modified xsi:type="dcterms:W3CDTF">2021-10-24T11:10:41Z</dcterms:modified>
  <cp:revision>1</cp:revision>
  <dc:subject/>
  <dc:title/>
</cp:coreProperties>
</file>